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13500000"/>
                </a:gradFill>
                <a:latin typeface="Impact"/>
              </a:rPr>
              <a:t>Hillsborough Squa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7" name="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fill="hold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 fill="hold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dur="indefinite" fill="hold">
                      <p:stCondLst>
                        <p:cond delay="0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75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dur="indefinite" fill="hold">
                      <p:stCondLst>
                        <p:cond delay="0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75" fill="hold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fill="hold">
                      <p:stCondLst>
                        <p:cond delay="0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75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dur="indefinite" fill="hold">
                      <p:stCondLst>
                        <p:cond delay="0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75" fill="hold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dur="indefinite" fill="hold">
                      <p:stCondLst>
                        <p:cond delay="0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75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dur="indefinite" fill="hold">
                      <p:stCondLst>
                        <p:cond delay="0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75" fill="hold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dur="indefinite" fill="hold">
                      <p:stCondLst>
                        <p:cond delay="0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75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dur="indefinite" fill="hold">
                      <p:stCondLst>
                        <p:cond delay="0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75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dur="indefinite" fill="hold">
                      <p:stCondLst>
                        <p:cond delay="0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75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dur="indefinite" fill="hold">
                      <p:stCondLst>
                        <p:cond delay="0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75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732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4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0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75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dur="indefinite" fill="hold">
                      <p:stCondLst>
                        <p:cond delay="0"/>
                      </p:stCondLst>
                      <p:childTnLst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75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dur="indefinite" fill="hold">
                      <p:stCondLst>
                        <p:cond delay="0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75" fill="hold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8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dur="indefinite" fill="hold">
                      <p:stCondLst>
                        <p:cond delay="0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4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dur="indefinite" fill="hold">
                      <p:stCondLst>
                        <p:cond delay="0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Dewey Cheatum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Anita Hugginkis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Ivana Win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eymour Mon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hil R. U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raven Sumfoo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Lee V. Mediatel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Ima B. Utifu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and E. Beach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0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75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dur="indefinite" fill="hold">
                      <p:stCondLst>
                        <p:cond delay="0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75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dur="indefinite" fill="hold">
                      <p:stCondLst>
                        <p:cond delay="0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75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0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75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dur="indefinite" fill="hold">
                      <p:stCondLst>
                        <p:cond delay="0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75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Connie Campbell</cp:lastModifiedBy>
  <dcterms:modified xsi:type="dcterms:W3CDTF">2002-05-31T22:00:11Z</dcterms:modified>
  <cp:revision>25</cp:revision>
  <dc:subject/>
  <dc:title>No Slide Title</dc:title>
</cp:coreProperties>
</file>